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138988" cy="9424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138800" cy="94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2400" cy="471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43520" y="0"/>
            <a:ext cx="3092400" cy="471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12840" y="706320"/>
            <a:ext cx="4711680" cy="35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4240" y="4476240"/>
            <a:ext cx="5708880" cy="4240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8950320"/>
            <a:ext cx="3092400" cy="471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43520" y="8950320"/>
            <a:ext cx="3092400" cy="471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6362-B17A-4747-959B-5621C6FC3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043520" y="8950320"/>
            <a:ext cx="30924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F580-033B-4846-A2D2-8AF0750A44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12840" y="706320"/>
            <a:ext cx="4711680" cy="3533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4240" y="4476240"/>
            <a:ext cx="5708880" cy="42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12840" y="706320"/>
            <a:ext cx="4711680" cy="3533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4240" y="4476240"/>
            <a:ext cx="5708880" cy="42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43520" y="8950320"/>
            <a:ext cx="30924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F14E-E1E9-429F-B597-9AB3DE8181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12840" y="706320"/>
            <a:ext cx="4711680" cy="3533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4240" y="4476240"/>
            <a:ext cx="5708880" cy="42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43520" y="8950320"/>
            <a:ext cx="30924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1A41-5587-4304-BB7F-6E2A275F66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12840" y="706320"/>
            <a:ext cx="4711680" cy="3533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4240" y="4476240"/>
            <a:ext cx="5708880" cy="42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4043520" y="8950320"/>
            <a:ext cx="30924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B676-6815-48D2-89A6-493E10632D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43520" y="8950320"/>
            <a:ext cx="30924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04AE-24A0-4EB5-B3BF-7828443960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12840" y="706320"/>
            <a:ext cx="4711680" cy="3533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14240" y="4476240"/>
            <a:ext cx="5708880" cy="4240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142786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043520" y="8950320"/>
            <a:ext cx="30924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16B0-453F-4613-9EDF-B9DBA99C52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12840" y="706320"/>
            <a:ext cx="4711680" cy="3533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4240" y="4476240"/>
            <a:ext cx="5708880" cy="42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12840" y="706320"/>
            <a:ext cx="4711680" cy="3533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14240" y="4476240"/>
            <a:ext cx="5708880" cy="42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4043520" y="8950320"/>
            <a:ext cx="30924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0510-819C-4BBB-8184-999D9482E3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12840" y="706320"/>
            <a:ext cx="4711680" cy="3533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14240" y="4476240"/>
            <a:ext cx="5708880" cy="42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4043520" y="8950320"/>
            <a:ext cx="30924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E124-662F-451A-A397-D0786F3E54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12840" y="706320"/>
            <a:ext cx="4711680" cy="3533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14240" y="4476240"/>
            <a:ext cx="5708880" cy="42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4043520" y="8950320"/>
            <a:ext cx="30924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33C1-B6BE-4977-8826-21A8CEED8D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12840" y="706320"/>
            <a:ext cx="4711680" cy="3533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4240" y="4476240"/>
            <a:ext cx="5708880" cy="42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43520" y="8950320"/>
            <a:ext cx="30924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A84A-5582-4F33-BE30-9C5E0FD76A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12840" y="706320"/>
            <a:ext cx="4711680" cy="3533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4240" y="4476240"/>
            <a:ext cx="5708880" cy="42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4043520" y="8950320"/>
            <a:ext cx="30924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3F5B-5D93-4D7E-B482-00EEADCA08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12840" y="706320"/>
            <a:ext cx="4711680" cy="3533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14240" y="4476240"/>
            <a:ext cx="5708880" cy="42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4043520" y="8950320"/>
            <a:ext cx="30924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D2BA-09BD-495D-AD17-3352F21FA3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12840" y="706320"/>
            <a:ext cx="4711680" cy="3533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14240" y="4476240"/>
            <a:ext cx="5708880" cy="42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4043520" y="8950320"/>
            <a:ext cx="30924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BE1A-3776-4FEA-AF43-EFBF049AE9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8B7E-E443-472B-92D7-64595C993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0E10-A89E-4DAA-A5F2-4EFB3A79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C982-69EA-40B3-AE10-E7992220B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AEA0-555A-4814-943D-3AC52A29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71D21-26E0-4452-B211-DF1A17CCD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50B95-9DEB-435C-B9CE-47312C20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49BCC-4E93-4D36-B4E9-1165A30A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6184B-5C83-41E0-BCEA-0C0D3876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25218-C290-48A8-87A3-BD1DF109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0BDC8-68C0-476A-9097-B207C727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9F281-A1F9-4B08-8F91-D5E3825C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5EA3-B9E5-4619-ACCE-C85B245C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5159A-919B-44C1-AED9-630A6696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42B12-BC8D-488E-96A8-AF9E7D02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D80B9-FF9A-4F45-8936-5BE66168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6C456-BD4A-4161-B0F4-97F4EA4FB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D57D6-63C8-48F9-87C4-E4215938A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35DB-BA61-4F06-B953-C857A05B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B31F-1798-4EC2-B34F-725557A4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156F-3951-4D30-A7BA-6AD00A6F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41F8-571B-492A-9847-001016B2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5E35-73EC-4C7A-9E84-B5FE594D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0F59-E115-4676-90B1-B09F5600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B20F-04B3-40E7-8C47-B6B5B9DE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A216-55C9-4575-A8EF-3C2B9055C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B9D5-D04B-42A4-B96B-036C56AB27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llegro BT"/>
              </a:rPr>
              <a:t>Piracy on the Cybersea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76160" y="4571640"/>
            <a:ext cx="5715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362320" y="480060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ianne E. Dusm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enior Assistant Consumer Advoca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ennsylvania Office of Consumer Advoca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55 Walnut Street, Fifth Floor, Forum Pla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arrisburg PA 17101-1923</a:t>
            </a:r>
            <a:r>
              <a:rPr b="0" lang="en-US" sz="800" spc="-1" strike="noStrike">
                <a:solidFill>
                  <a:srgbClr val="ffffff"/>
                </a:solidFill>
                <a:latin typeface="Garamond"/>
              </a:rPr>
              <a:t>                    000142639.doc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ovember 16, 200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5"/>
          <p:cNvGrpSpPr/>
          <p:nvPr/>
        </p:nvGrpSpPr>
        <p:grpSpPr>
          <a:xfrm>
            <a:off x="2743200" y="1905120"/>
            <a:ext cx="3841920" cy="3435120"/>
            <a:chOff x="2743200" y="1905120"/>
            <a:chExt cx="3841920" cy="3435120"/>
          </a:xfrm>
        </p:grpSpPr>
        <p:pic>
          <p:nvPicPr>
            <p:cNvPr id="94" name="Picture 6" descr="BS00097_"/>
            <p:cNvPicPr/>
            <p:nvPr/>
          </p:nvPicPr>
          <p:blipFill>
            <a:blip r:embed="rId1"/>
            <a:stretch/>
          </p:blipFill>
          <p:spPr>
            <a:xfrm>
              <a:off x="2743200" y="1905120"/>
              <a:ext cx="3841920" cy="34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7" descr="01_johnny_depp_pirates_of_the_caribbean-p"/>
            <p:cNvPicPr/>
            <p:nvPr/>
          </p:nvPicPr>
          <p:blipFill>
            <a:blip r:embed="rId2"/>
            <a:stretch/>
          </p:blipFill>
          <p:spPr>
            <a:xfrm>
              <a:off x="3978360" y="2139840"/>
              <a:ext cx="1447920" cy="1034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10-11 PA complaints allege cramming 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1218960"/>
            <a:ext cx="64008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sk Network/Transition Clearing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national Satellite Comm.; Rocket Comm.; USBI, OAN, ILD Teleservices, Pamentone; Fetch Unlimited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yment One/Pathway Profit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BI, Comlink Direct, Voice Express, AOS, Select Options, PBI, adigitalvillage.com, USA Voicemail, Streaming Flix, Meteline Tech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ong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ctors in 2010 - 2011 PA complai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ges: $6.31 to $16.95 per mon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eared on up to six months’ b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ten involved 2 to 3 compan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other than LEC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eared to involve Internet use or telemark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ultiple Potential Approaches to Eliminating Cramming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vention by carriers/aggregators using best anti-cramming practices and innovative 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umer education by carriers, govt. agencies, consumer grou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forcement /Injunctions against initiators and non-compliance carri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, federal, administrative agencies all play a ro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anks for your kind attention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10" descr="MCBD05064_0000[1]"/>
          <p:cNvPicPr/>
          <p:nvPr/>
        </p:nvPicPr>
        <p:blipFill>
          <a:blip r:embed="rId1"/>
          <a:stretch/>
        </p:blipFill>
        <p:spPr>
          <a:xfrm>
            <a:off x="3483000" y="2370240"/>
            <a:ext cx="2178000" cy="2116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MCBD05064_0000[1]"/>
          <p:cNvPicPr/>
          <p:nvPr/>
        </p:nvPicPr>
        <p:blipFill>
          <a:blip r:embed="rId2"/>
          <a:stretch/>
        </p:blipFill>
        <p:spPr>
          <a:xfrm>
            <a:off x="2514600" y="1828800"/>
            <a:ext cx="4038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571680" y="17640"/>
            <a:ext cx="799920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639720" y="289080"/>
            <a:ext cx="7862760" cy="62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DOES CRAMMING HAPPE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3885840"/>
            <a:ext cx="58672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fy” websi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adequate disclos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all pr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-mails from scamm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scrupulous telemarke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MPj03877250000[1]"/>
          <p:cNvPicPr/>
          <p:nvPr/>
        </p:nvPicPr>
        <p:blipFill>
          <a:blip r:embed="rId1"/>
          <a:stretch/>
        </p:blipFill>
        <p:spPr>
          <a:xfrm>
            <a:off x="6324480" y="4038480"/>
            <a:ext cx="281952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396720" y="152280"/>
            <a:ext cx="8290080" cy="65674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2514600" y="380880"/>
            <a:ext cx="1066680" cy="337320"/>
          </a:xfrm>
          <a:prstGeom prst="rect">
            <a:avLst/>
          </a:prstGeom>
          <a:solidFill>
            <a:srgbClr val="eeeef4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Tahoma"/>
              </a:rPr>
              <a:t>I ACCEP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1752480" y="676440"/>
            <a:ext cx="70106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Tahoma"/>
              </a:rPr>
              <a:t>You accept that you will be charged and you will pay $2.99 per minute, along with a $1.99 charge for the actual long distance connection on your local phone bill by Telliss Billing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1752480" y="2990880"/>
            <a:ext cx="7010640" cy="106740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Tahoma"/>
              </a:rPr>
              <a:t>You will incur charges by accessing this pay-per-view internet service from the international long distance charge of $2.99 per minute, with a $1.99 connect fee. This amount will be billed by Telliss Billing on your local phone bill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752480" y="4002120"/>
            <a:ext cx="70106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76367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Tahoma"/>
              </a:rPr>
              <a:t>These charges are accurate for the connection. NO SLAMMING or CRAMMING for these telephone charges have occurred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2514600" y="152280"/>
            <a:ext cx="914400" cy="228600"/>
          </a:xfrm>
          <a:prstGeom prst="rect">
            <a:avLst/>
          </a:prstGeom>
          <a:solidFill>
            <a:srgbClr val="ffff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1981080" y="304920"/>
            <a:ext cx="6629400" cy="152280"/>
          </a:xfrm>
          <a:prstGeom prst="rect">
            <a:avLst/>
          </a:prstGeom>
          <a:solidFill>
            <a:srgbClr val="ffff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304920" y="457200"/>
            <a:ext cx="6324480" cy="152280"/>
          </a:xfrm>
          <a:prstGeom prst="rect">
            <a:avLst/>
          </a:prstGeom>
          <a:solidFill>
            <a:srgbClr val="ffff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3505320" y="2514600"/>
            <a:ext cx="5181480" cy="152280"/>
          </a:xfrm>
          <a:prstGeom prst="rect">
            <a:avLst/>
          </a:prstGeom>
          <a:solidFill>
            <a:srgbClr val="ffff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04920" y="2666880"/>
            <a:ext cx="8381880" cy="152640"/>
          </a:xfrm>
          <a:prstGeom prst="rect">
            <a:avLst/>
          </a:prstGeom>
          <a:solidFill>
            <a:srgbClr val="ffff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304920" y="2819520"/>
            <a:ext cx="2971800" cy="152280"/>
          </a:xfrm>
          <a:prstGeom prst="rect">
            <a:avLst/>
          </a:prstGeom>
          <a:solidFill>
            <a:srgbClr val="ffff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4419720" y="3657600"/>
            <a:ext cx="4267080" cy="228600"/>
          </a:xfrm>
          <a:prstGeom prst="rect">
            <a:avLst/>
          </a:prstGeom>
          <a:solidFill>
            <a:srgbClr val="ffff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304920" y="3809880"/>
            <a:ext cx="5257800" cy="228600"/>
          </a:xfrm>
          <a:prstGeom prst="rect">
            <a:avLst/>
          </a:prstGeom>
          <a:solidFill>
            <a:srgbClr val="ffff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6" dur="1" fill="hold"/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7" dur="1" fill="hold"/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8" dur="1" fill="hold"/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ennsylvania Regulations,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52 Pa. Code 64.23: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authorized charges must be removed from the customer’s bill upon request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contact to the Local Exchange Carrier should resolve the cramming disput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gotiated Settlements between PaOCA,  Verizon &amp;  Aggregators led to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roximately $702,500 in refunds and credits to PA customers alo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does it happe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re sufficient vigilance on the part of local exchange carriers and aggregator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carriers and aggregators respecting the FCC anti-cramming best practice guidelines?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[http://www.fcc.gov/Bureaus/Common_Carrier/Other/cramming.html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itial screening, complaint thresholds, fees for unauthorized charge disput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losure of crams to enforcement agenci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ssible Innovations?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arly Warning System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errant charge kick-outs, 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ls by Customer Service Reps to consumers to confirm        purchases if new charges app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13:19:04Z</dcterms:created>
  <dc:creator>Dianne Dusman</dc:creator>
  <dc:description/>
  <dc:language>en-US</dc:language>
  <cp:lastModifiedBy>DIANNE DUSMAN</cp:lastModifiedBy>
  <dcterms:modified xsi:type="dcterms:W3CDTF">2011-05-09T21:24:41Z</dcterms:modified>
  <cp:revision>43</cp:revision>
  <dc:subject/>
  <dc:title>Piracy on the Cyberseas</dc:title>
</cp:coreProperties>
</file>