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3D8-9630-4F4A-ACDF-8EC48812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FE1-68F2-4484-A2AC-6680825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675-A023-4E39-BC9B-77B69FF1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83D-55FE-465C-9DF8-6ECE7E7C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B0E-1D37-40EE-A7D0-E03D8016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368-DAF6-4302-8B6D-C98EBDFB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36A-C313-44C3-843E-AF07EC56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F5E-EDE1-4C34-8EF2-0BA814D2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E43-68F5-44E5-9DA9-053421F6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0F7-8819-4636-8253-5FE9C54E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360-0D28-4F73-8B2E-7D4D6AB7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115-A6D0-421B-BA0E-5C79CBC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B767-23B7-44C7-B6A9-48B3AE14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5546880"/>
            <a:ext cx="3124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7078"/>
                </a:solidFill>
                <a:latin typeface="Garamond"/>
              </a:rPr>
              <a:t>Federal Trade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7078"/>
                </a:solidFill>
                <a:latin typeface="Garamond"/>
              </a:rPr>
              <a:t>May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295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7f18"/>
                </a:solidFill>
                <a:latin typeface="Arial"/>
              </a:rPr>
              <a:t>SESSION 3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05120"/>
            <a:ext cx="7772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7f18"/>
                </a:solidFill>
                <a:latin typeface="Arial"/>
              </a:rPr>
              <a:t>Approaches to Cramming Preventio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7f18"/>
                </a:solidFill>
                <a:latin typeface="Arial"/>
              </a:rPr>
              <a:t>How are the Mobile and Billing Platform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0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Michael Altsch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Jim Ma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Glenn Reyn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198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60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173664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1889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5 min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Please submit your note cards with suggestions on solutions for Panel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1889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7f18"/>
                </a:solidFill>
                <a:latin typeface="Arial"/>
              </a:rPr>
              <a:t>SESSION 4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498760"/>
            <a:ext cx="6477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7f18"/>
                </a:solidFill>
                <a:latin typeface="Arial"/>
              </a:rPr>
              <a:t>Potential Solutions to the Cramming Probl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60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John Brey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lliot 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Joel Gu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rik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Keith Vanden Do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198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76720" y="5546880"/>
            <a:ext cx="3124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7078"/>
                </a:solidFill>
                <a:latin typeface="Garamond"/>
              </a:rPr>
              <a:t>Federal Trade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7078"/>
                </a:solidFill>
                <a:latin typeface="Garamond"/>
              </a:rPr>
              <a:t>May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096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7f18"/>
                </a:solidFill>
                <a:latin typeface="Arial"/>
              </a:rPr>
              <a:t>INTRODUCTORY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0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962520"/>
            <a:ext cx="1281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17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7f18"/>
                </a:solidFill>
                <a:latin typeface="Arial"/>
              </a:rPr>
              <a:t>SESSION 1: CRAMM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242244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7f18"/>
                </a:solidFill>
                <a:latin typeface="Arial"/>
              </a:rPr>
              <a:t>How Does It Happen and What is the Inj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0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86200" y="3962520"/>
            <a:ext cx="1281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6200000">
            <a:off x="7657920" y="2634840"/>
            <a:ext cx="838440" cy="1219320"/>
          </a:xfrm>
          <a:prstGeom prst="flowChartDelay">
            <a:avLst/>
          </a:prstGeom>
          <a:gradFill rotWithShape="0">
            <a:gsLst>
              <a:gs pos="0">
                <a:srgbClr val="37838d"/>
              </a:gs>
              <a:gs pos="100000">
                <a:srgbClr val="49adbb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590920"/>
            <a:ext cx="1447920" cy="1218960"/>
          </a:xfrm>
          <a:prstGeom prst="ellipse">
            <a:avLst/>
          </a:prstGeom>
          <a:gradFill rotWithShape="0">
            <a:gsLst>
              <a:gs pos="0">
                <a:srgbClr val="e67f18"/>
              </a:gs>
              <a:gs pos="100000">
                <a:srgbClr val="e788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597040"/>
            <a:ext cx="1447920" cy="1219320"/>
          </a:xfrm>
          <a:prstGeom prst="ellipse">
            <a:avLst/>
          </a:prstGeom>
          <a:gradFill rotWithShape="0">
            <a:gsLst>
              <a:gs pos="0">
                <a:srgbClr val="e67f18"/>
              </a:gs>
              <a:gs pos="100000">
                <a:srgbClr val="e788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901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6719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Exchang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749680"/>
            <a:ext cx="76212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9782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ts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572600">
            <a:off x="988920" y="274248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4095" y="15162"/>
                </a:moveTo>
                <a:arcTo wR="-7999" hR="-7999" stAng="8817216" swAng="-8111882"/>
                <a:lnTo>
                  <a:pt x="227" y="8600"/>
                </a:lnTo>
                <a:arcTo wR="10800" hR="10800" stAng="-10094666" swAng="8111882"/>
                <a:lnTo>
                  <a:pt x="22116" y="3438"/>
                </a:lnTo>
                <a:lnTo>
                  <a:pt x="20915" y="9111"/>
                </a:lnTo>
                <a:lnTo>
                  <a:pt x="15242" y="791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33720" y="4343400"/>
            <a:ext cx="11412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689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2749680"/>
            <a:ext cx="76212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29782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ts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2749680"/>
            <a:ext cx="76176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9782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Bu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597040"/>
            <a:ext cx="1447560" cy="1219320"/>
          </a:xfrm>
          <a:prstGeom prst="ellipse">
            <a:avLst/>
          </a:prstGeom>
          <a:gradFill rotWithShape="0">
            <a:gsLst>
              <a:gs pos="0">
                <a:srgbClr val="e67f18"/>
              </a:gs>
              <a:gs pos="100000">
                <a:srgbClr val="e788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749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ing Aggre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572600">
            <a:off x="3276720" y="274248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4095" y="15162"/>
                </a:moveTo>
                <a:arcTo wR="-7999" hR="-7999" stAng="8817216" swAng="-8111882"/>
                <a:lnTo>
                  <a:pt x="227" y="8600"/>
                </a:lnTo>
                <a:arcTo wR="10800" hR="10800" stAng="-10094666" swAng="8111882"/>
                <a:lnTo>
                  <a:pt x="22116" y="3438"/>
                </a:lnTo>
                <a:lnTo>
                  <a:pt x="20915" y="9111"/>
                </a:lnTo>
                <a:lnTo>
                  <a:pt x="15242" y="791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572600">
            <a:off x="5562720" y="267264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4095" y="15162"/>
                </a:moveTo>
                <a:arcTo wR="-7999" hR="-7999" stAng="8817216" swAng="-8111882"/>
                <a:lnTo>
                  <a:pt x="227" y="8600"/>
                </a:lnTo>
                <a:arcTo wR="10800" hR="10800" stAng="-10094666" swAng="8111882"/>
                <a:lnTo>
                  <a:pt x="22116" y="3438"/>
                </a:lnTo>
                <a:lnTo>
                  <a:pt x="20915" y="9111"/>
                </a:lnTo>
                <a:lnTo>
                  <a:pt x="15242" y="791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2216160"/>
            <a:ext cx="838080" cy="762120"/>
          </a:xfrm>
          <a:prstGeom prst="ellipse">
            <a:avLst/>
          </a:prstGeom>
          <a:gradFill rotWithShape="0">
            <a:gsLst>
              <a:gs pos="0">
                <a:srgbClr val="357d87"/>
              </a:gs>
              <a:gs pos="100000">
                <a:srgbClr val="49adb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17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5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7f18"/>
                </a:solidFill>
                <a:latin typeface="Arial"/>
              </a:rPr>
              <a:t>Telephone Bill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19720" y="4343400"/>
            <a:ext cx="11412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689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69080" y="3387600"/>
            <a:ext cx="16794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689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ays for Serv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Beth Black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ianne Dus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raig Graz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arissa Bu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198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71800" y="173664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9880" y="1889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5 min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Please submit your note cards with suggestions on solutions for Panel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619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295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7f18"/>
                </a:solidFill>
                <a:latin typeface="Arial"/>
              </a:rPr>
              <a:t>SESSION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9368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7f18"/>
                </a:solidFill>
                <a:latin typeface="Arial"/>
              </a:rPr>
              <a:t>What Steps Does the Telephone Billing Industry Take to Detect, Monitor, and Prevent Cram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0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19320" y="1219320"/>
            <a:ext cx="6553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ichard Gold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Laura K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John McGlam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on Te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Kent Ward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198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604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Examining Phone Bill C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66880" y="173664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05320" y="18892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2:00-1:30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Please submit your note cards with suggestions on solutions for Panel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5:19:38Z</dcterms:created>
  <dc:creator>nmikhail</dc:creator>
  <dc:description/>
  <dc:language>en-US</dc:language>
  <cp:lastModifiedBy>nmikhail</cp:lastModifiedBy>
  <dcterms:modified xsi:type="dcterms:W3CDTF">2011-05-10T20:18:17Z</dcterms:modified>
  <cp:revision>21</cp:revision>
  <dc:subject/>
  <dc:title>Slide 1</dc:title>
</cp:coreProperties>
</file>