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E0D69-8D69-46E2-999F-1AD7100069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803772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360" y="3665880"/>
            <a:ext cx="803772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97012-8087-442A-AC28-DEE97AA0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736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612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4736C-7A8F-4E07-AA5F-3BF54976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5360" y="154944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3000" y="154944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360" y="366588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5360" y="366588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3000" y="366588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7EA52-BE75-44CF-BA91-79018296D6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77360" y="1549440"/>
            <a:ext cx="803772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803772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0440" y="457200"/>
            <a:ext cx="8037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7736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77360" y="1549440"/>
            <a:ext cx="803772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0E94C-D11A-4E43-B599-B35C998C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9612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7360" y="3665880"/>
            <a:ext cx="803772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803772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360" y="3665880"/>
            <a:ext cx="803772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736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9612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5360" y="154944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13000" y="154944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7360" y="366588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5360" y="366588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13000" y="366588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F3116-85C1-492B-AAF5-9F9DE41143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77360" y="1549440"/>
            <a:ext cx="803772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9B487-0EF1-4318-8CD1-655DB088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803772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58890-79FC-4157-96D0-C1271588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CAD0E-32D1-4BE1-963B-84709BED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244B6-53FE-4982-9A43-45FDE550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803772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5D425-2FFD-4DBF-BAB2-31549673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60440" y="457200"/>
            <a:ext cx="8037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B79D6-5BB0-42D6-B61D-33D40630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736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A4D70-17E9-4522-A96B-093076FC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9612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DCDBB-860A-4069-9ADE-F4E65C57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7360" y="3665880"/>
            <a:ext cx="803772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FDFD3-65CB-4AA8-ADF1-A3261447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803772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7360" y="3665880"/>
            <a:ext cx="803772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B7295-7698-4001-B35B-582AAD38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736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9612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6F259-DDFD-446C-AE96-A66D2CDA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95360" y="154944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13000" y="154944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7360" y="366588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95360" y="366588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13000" y="366588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80668-9C84-40DA-AAA9-56445893B4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13E2-0ADC-4BD6-BFC6-8DFCA82707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77360" y="1549440"/>
            <a:ext cx="803772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96E7-9575-4F3F-9B73-26933296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803772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375A-F610-4408-81A0-00A7005E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A5A1E-D746-4D9D-B3E1-6006EB64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023E-17D6-4FFD-AD80-4ACF7755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0EA1-A5DC-4C74-A1BE-B75375C0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0440" y="457200"/>
            <a:ext cx="8037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084F-5206-4E3A-83B3-57E5B402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7736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47AD-BB65-490B-9AC1-CAE41B68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9612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8786-F9BD-4526-921A-741BF191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7360" y="3665880"/>
            <a:ext cx="803772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76A8-5414-43B3-B117-7E890CAF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803772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7360" y="3665880"/>
            <a:ext cx="803772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89E9-D830-410A-89BF-A90E0286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736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9612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96DD-D306-4098-8A0F-066DC44B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95360" y="154944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13000" y="154944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77360" y="366588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95360" y="366588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13000" y="366588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87B9-494F-4AAC-A328-82DCDA4E45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7D08B-0C1F-49C2-8B38-FEC849818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77360" y="1549440"/>
            <a:ext cx="803772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803772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60440" y="457200"/>
            <a:ext cx="8037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736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9612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77360" y="3665880"/>
            <a:ext cx="803772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803772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7360" y="3665880"/>
            <a:ext cx="803772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7736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9612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0440" y="457200"/>
            <a:ext cx="8037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F924F-DBCB-49B2-AB71-E40EE583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195360" y="154944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13000" y="154944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7360" y="366588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195360" y="366588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13000" y="366588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77360" y="1549440"/>
            <a:ext cx="803772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803772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0440" y="457200"/>
            <a:ext cx="8037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7736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9612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7360" y="3665880"/>
            <a:ext cx="803772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736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F7509-2CEF-4EB4-9A12-57C09A65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803772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7360" y="3665880"/>
            <a:ext cx="803772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7736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9612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95360" y="154944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13000" y="154944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77360" y="366588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95360" y="366588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13000" y="366588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77360" y="1549440"/>
            <a:ext cx="803772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803772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60440" y="457200"/>
            <a:ext cx="8037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736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612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25569-0F08-4A1B-BD90-6B4934D8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9612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7360" y="3665880"/>
            <a:ext cx="803772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803772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7360" y="3665880"/>
            <a:ext cx="803772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7736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9612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195360" y="154944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13000" y="154944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77360" y="366588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195360" y="366588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13000" y="366588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77360" y="1549440"/>
            <a:ext cx="803772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803772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7360" y="3665880"/>
            <a:ext cx="803772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4412B-A0CC-4510-9682-99E19C24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60440" y="457200"/>
            <a:ext cx="8037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7736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9612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7360" y="3665880"/>
            <a:ext cx="803772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803772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7360" y="3665880"/>
            <a:ext cx="803772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96120" y="154944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7736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96120" y="3665880"/>
            <a:ext cx="392220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7360" y="154944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195360" y="154944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913000" y="154944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77360" y="366588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195360" y="366588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913000" y="3665880"/>
            <a:ext cx="2588040" cy="19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67ab4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7360" y="1549440"/>
            <a:ext cx="803772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Verdana"/>
              <a:buChar char="•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IB Wb Regular"/>
              <a:buChar char="–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Verdana"/>
              <a:buChar char="•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Verdana"/>
              <a:buChar char="–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Verdana"/>
              <a:buChar char="–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Verdana"/>
              <a:buChar char="–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5867280"/>
            <a:ext cx="9144000" cy="1000080"/>
            <a:chOff x="0" y="5867280"/>
            <a:chExt cx="9144000" cy="1000080"/>
          </a:xfrm>
        </p:grpSpPr>
        <p:sp>
          <p:nvSpPr>
            <p:cNvPr id="3" name="Freeform 5"/>
            <p:cNvSpPr/>
            <p:nvPr/>
          </p:nvSpPr>
          <p:spPr>
            <a:xfrm>
              <a:off x="0" y="5867280"/>
              <a:ext cx="9144000" cy="1000080"/>
            </a:xfrm>
            <a:prstGeom prst="pie">
              <a:avLst/>
            </a:prstGeom>
            <a:solidFill>
              <a:srgbClr val="f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cccccc"/>
                </a:solidFill>
                <a:latin typeface="Verdana"/>
              </a:endParaRPr>
            </a:p>
          </p:txBody>
        </p:sp>
        <p:pic>
          <p:nvPicPr>
            <p:cNvPr id="4" name="Picture 6" descr="att_slidedark_logo300"/>
            <p:cNvPicPr/>
            <p:nvPr/>
          </p:nvPicPr>
          <p:blipFill>
            <a:blip r:embed="rId2"/>
            <a:stretch/>
          </p:blipFill>
          <p:spPr>
            <a:xfrm>
              <a:off x="8118360" y="6321600"/>
              <a:ext cx="800280" cy="37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171440" y="6578280"/>
            <a:ext cx="164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86E7-3629-4077-BA25-E91B83C97511}" type="datetime3">
              <a:rPr b="0" lang="en-US" sz="900" spc="-1" strike="noStrike">
                <a:solidFill>
                  <a:srgbClr val="ffffff"/>
                </a:solidFill>
                <a:latin typeface="Arial"/>
              </a:rPr>
              <a:t>July 29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80520" y="6580080"/>
            <a:ext cx="817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ge </a:t>
            </a:r>
            <a:fld id="{F39A097A-6FA8-4D10-98A3-2A9C7BFAFAEB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67ab4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77360" y="1549440"/>
            <a:ext cx="803772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Verdana"/>
              <a:buChar char="•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IB Wb Regular"/>
              <a:buChar char="–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Verdana"/>
              <a:buChar char="•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Verdana"/>
              <a:buChar char="–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Verdana"/>
              <a:buChar char="–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Verdana"/>
              <a:buChar char="–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81" name="Group 4"/>
          <p:cNvGrpSpPr/>
          <p:nvPr/>
        </p:nvGrpSpPr>
        <p:grpSpPr>
          <a:xfrm>
            <a:off x="0" y="5867280"/>
            <a:ext cx="9144000" cy="1000080"/>
            <a:chOff x="0" y="5867280"/>
            <a:chExt cx="9144000" cy="1000080"/>
          </a:xfrm>
        </p:grpSpPr>
        <p:sp>
          <p:nvSpPr>
            <p:cNvPr id="82" name="Freeform 5"/>
            <p:cNvSpPr/>
            <p:nvPr/>
          </p:nvSpPr>
          <p:spPr>
            <a:xfrm>
              <a:off x="0" y="5867280"/>
              <a:ext cx="9144000" cy="1000080"/>
            </a:xfrm>
            <a:prstGeom prst="pie">
              <a:avLst/>
            </a:prstGeom>
            <a:solidFill>
              <a:srgbClr val="f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cccccc"/>
                </a:solidFill>
                <a:latin typeface="Verdana"/>
              </a:endParaRPr>
            </a:p>
          </p:txBody>
        </p:sp>
        <p:pic>
          <p:nvPicPr>
            <p:cNvPr id="83" name="Picture 6" descr="att_slidedark_logo300"/>
            <p:cNvPicPr/>
            <p:nvPr/>
          </p:nvPicPr>
          <p:blipFill>
            <a:blip r:embed="rId2"/>
            <a:stretch/>
          </p:blipFill>
          <p:spPr>
            <a:xfrm>
              <a:off x="8118360" y="6321600"/>
              <a:ext cx="800280" cy="37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PlaceHolder 3"/>
          <p:cNvSpPr>
            <a:spLocks noGrp="1"/>
          </p:cNvSpPr>
          <p:nvPr>
            <p:ph type="dt" idx="3"/>
          </p:nvPr>
        </p:nvSpPr>
        <p:spPr>
          <a:xfrm>
            <a:off x="1171440" y="6578280"/>
            <a:ext cx="164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657D-CC86-4409-B2EF-ABD8E5D3A9AF}" type="datetime3">
              <a:rPr b="0" lang="en-US" sz="900" spc="-1" strike="noStrike">
                <a:solidFill>
                  <a:srgbClr val="ffffff"/>
                </a:solidFill>
                <a:latin typeface="Arial"/>
              </a:rPr>
              <a:t>July 29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4"/>
          </p:nvPr>
        </p:nvSpPr>
        <p:spPr>
          <a:xfrm>
            <a:off x="380520" y="6580080"/>
            <a:ext cx="817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ge </a:t>
            </a:r>
            <a:fld id="{0BAE4BA6-431A-4AF6-A483-36212A52C158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67ab4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77360" y="1549440"/>
            <a:ext cx="803772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Verdana"/>
              <a:buChar char="•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IB Wb Regular"/>
              <a:buChar char="–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Verdana"/>
              <a:buChar char="•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Verdana"/>
              <a:buChar char="–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Verdana"/>
              <a:buChar char="–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Verdana"/>
              <a:buChar char="–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24" name="Group 4"/>
          <p:cNvGrpSpPr/>
          <p:nvPr/>
        </p:nvGrpSpPr>
        <p:grpSpPr>
          <a:xfrm>
            <a:off x="0" y="5867280"/>
            <a:ext cx="9144000" cy="1000080"/>
            <a:chOff x="0" y="5867280"/>
            <a:chExt cx="9144000" cy="1000080"/>
          </a:xfrm>
        </p:grpSpPr>
        <p:sp>
          <p:nvSpPr>
            <p:cNvPr id="125" name="Freeform 5"/>
            <p:cNvSpPr/>
            <p:nvPr/>
          </p:nvSpPr>
          <p:spPr>
            <a:xfrm>
              <a:off x="0" y="5867280"/>
              <a:ext cx="9144000" cy="1000080"/>
            </a:xfrm>
            <a:prstGeom prst="pie">
              <a:avLst/>
            </a:prstGeom>
            <a:solidFill>
              <a:srgbClr val="f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cccccc"/>
                </a:solidFill>
                <a:latin typeface="Verdana"/>
              </a:endParaRPr>
            </a:p>
          </p:txBody>
        </p:sp>
        <p:pic>
          <p:nvPicPr>
            <p:cNvPr id="126" name="Picture 6" descr="att_slidedark_logo300"/>
            <p:cNvPicPr/>
            <p:nvPr/>
          </p:nvPicPr>
          <p:blipFill>
            <a:blip r:embed="rId2"/>
            <a:stretch/>
          </p:blipFill>
          <p:spPr>
            <a:xfrm>
              <a:off x="8118360" y="6321600"/>
              <a:ext cx="800280" cy="37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1171440" y="6578280"/>
            <a:ext cx="164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BD36-01B5-485E-8078-1D4914E7B802}" type="datetime3">
              <a:rPr b="0" lang="en-US" sz="900" spc="-1" strike="noStrike">
                <a:solidFill>
                  <a:srgbClr val="ffffff"/>
                </a:solidFill>
                <a:latin typeface="Arial"/>
              </a:rPr>
              <a:t>July 29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6"/>
          </p:nvPr>
        </p:nvSpPr>
        <p:spPr>
          <a:xfrm>
            <a:off x="380520" y="6580080"/>
            <a:ext cx="817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ge </a:t>
            </a:r>
            <a:fld id="{15CB7E0D-0497-49B6-93C8-2EF3D9A24B40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"/>
          <p:cNvGrpSpPr/>
          <p:nvPr/>
        </p:nvGrpSpPr>
        <p:grpSpPr>
          <a:xfrm>
            <a:off x="-19080" y="-19080"/>
            <a:ext cx="9182160" cy="3362400"/>
            <a:chOff x="-19080" y="-19080"/>
            <a:chExt cx="9182160" cy="3362400"/>
          </a:xfrm>
        </p:grpSpPr>
        <p:sp>
          <p:nvSpPr>
            <p:cNvPr id="166" name="Freeform 5"/>
            <p:cNvSpPr/>
            <p:nvPr/>
          </p:nvSpPr>
          <p:spPr>
            <a:xfrm>
              <a:off x="-19080" y="-19080"/>
              <a:ext cx="9182160" cy="336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cccccc"/>
                </a:solidFill>
                <a:latin typeface="Verdana"/>
              </a:endParaRPr>
            </a:p>
          </p:txBody>
        </p:sp>
        <p:pic>
          <p:nvPicPr>
            <p:cNvPr id="167" name="Picture 6" descr="titlelogo_light"/>
            <p:cNvPicPr/>
            <p:nvPr/>
          </p:nvPicPr>
          <p:blipFill>
            <a:blip r:embed="rId2"/>
            <a:stretch/>
          </p:blipFill>
          <p:spPr>
            <a:xfrm>
              <a:off x="658800" y="812880"/>
              <a:ext cx="2865600" cy="13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Text Box 7"/>
          <p:cNvSpPr/>
          <p:nvPr/>
        </p:nvSpPr>
        <p:spPr>
          <a:xfrm>
            <a:off x="130680" y="6477120"/>
            <a:ext cx="355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3d3df"/>
                </a:solidFill>
                <a:latin typeface="Arial"/>
              </a:rPr>
              <a:t>© 2007 AT&amp;T Knowledge Ventures. All rights reserved. AT&amp;T </a:t>
            </a:r>
            <a:br>
              <a:rPr sz="900"/>
            </a:br>
            <a:r>
              <a:rPr b="0" lang="en-US" sz="900" spc="-1" strike="noStrike">
                <a:solidFill>
                  <a:srgbClr val="c3d3df"/>
                </a:solidFill>
                <a:latin typeface="Arial"/>
              </a:rPr>
              <a:t>and the AT&amp;T logo are trademarks of AT&amp;T Knowledge  Ventures.</a:t>
            </a:r>
            <a:endParaRPr b="0" lang="en-US" sz="900" spc="-1" strike="noStrike">
              <a:solidFill>
                <a:srgbClr val="cccccc"/>
              </a:solidFill>
              <a:latin typeface="Verdana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0" y="0"/>
            <a:ext cx="9153360" cy="6858000"/>
            <a:chOff x="0" y="0"/>
            <a:chExt cx="9153360" cy="6858000"/>
          </a:xfrm>
        </p:grpSpPr>
        <p:grpSp>
          <p:nvGrpSpPr>
            <p:cNvPr id="170" name="Group 9"/>
            <p:cNvGrpSpPr/>
            <p:nvPr/>
          </p:nvGrpSpPr>
          <p:grpSpPr>
            <a:xfrm>
              <a:off x="0" y="4629240"/>
              <a:ext cx="9144000" cy="2228760"/>
              <a:chOff x="0" y="4629240"/>
              <a:chExt cx="9144000" cy="2228760"/>
            </a:xfrm>
          </p:grpSpPr>
          <p:sp>
            <p:nvSpPr>
              <p:cNvPr id="171" name="Freeform 15"/>
              <p:cNvSpPr/>
              <p:nvPr/>
            </p:nvSpPr>
            <p:spPr>
              <a:xfrm>
                <a:off x="0" y="4629240"/>
                <a:ext cx="9144000" cy="222876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cccccc"/>
                  </a:solidFill>
                  <a:latin typeface="Verdana"/>
                </a:endParaRPr>
              </a:p>
            </p:txBody>
          </p:sp>
          <p:pic>
            <p:nvPicPr>
              <p:cNvPr id="172" name="Picture 16" descr="att_title_logo150"/>
              <p:cNvPicPr/>
              <p:nvPr/>
            </p:nvPicPr>
            <p:blipFill>
              <a:blip r:embed="rId3"/>
              <a:stretch/>
            </p:blipFill>
            <p:spPr>
              <a:xfrm>
                <a:off x="7248600" y="5773680"/>
                <a:ext cx="1554120" cy="712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3" name="Freeform 12"/>
            <p:cNvSpPr/>
            <p:nvPr/>
          </p:nvSpPr>
          <p:spPr>
            <a:xfrm>
              <a:off x="0" y="0"/>
              <a:ext cx="9153360" cy="1795320"/>
            </a:xfrm>
            <a:prstGeom prst="pie">
              <a:avLst/>
            </a:prstGeom>
            <a:gradFill rotWithShape="0">
              <a:gsLst>
                <a:gs pos="0">
                  <a:srgbClr val="dcdcd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cccccc"/>
                </a:solidFill>
                <a:latin typeface="Verdana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67ab4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77360" y="1549440"/>
            <a:ext cx="803772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Verdana"/>
              <a:buChar char="•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IB Wb Regular"/>
              <a:buChar char="–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Verdana"/>
              <a:buChar char="•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Verdana"/>
              <a:buChar char="–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Verdana"/>
              <a:buChar char="–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Verdana"/>
              <a:buChar char="–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0" y="3497400"/>
            <a:ext cx="9144000" cy="3360600"/>
            <a:chOff x="0" y="3497400"/>
            <a:chExt cx="9144000" cy="3360600"/>
          </a:xfrm>
        </p:grpSpPr>
        <p:sp>
          <p:nvSpPr>
            <p:cNvPr id="213" name="Freeform 3"/>
            <p:cNvSpPr/>
            <p:nvPr/>
          </p:nvSpPr>
          <p:spPr>
            <a:xfrm>
              <a:off x="0" y="3497400"/>
              <a:ext cx="9144000" cy="336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cccccc"/>
                </a:solidFill>
                <a:latin typeface="Verdana"/>
              </a:endParaRPr>
            </a:p>
          </p:txBody>
        </p:sp>
        <p:pic>
          <p:nvPicPr>
            <p:cNvPr id="214" name="Picture 4" descr="titlelogo_light"/>
            <p:cNvPicPr/>
            <p:nvPr/>
          </p:nvPicPr>
          <p:blipFill>
            <a:blip r:embed="rId2"/>
            <a:stretch/>
          </p:blipFill>
          <p:spPr>
            <a:xfrm>
              <a:off x="5981760" y="5149800"/>
              <a:ext cx="2625840" cy="120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Text Box 7"/>
          <p:cNvSpPr/>
          <p:nvPr/>
        </p:nvSpPr>
        <p:spPr>
          <a:xfrm>
            <a:off x="130680" y="6477120"/>
            <a:ext cx="355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7ab4"/>
                </a:solidFill>
                <a:latin typeface="Arial"/>
              </a:rPr>
              <a:t>© 2007 AT&amp;T Knowledge Ventures. All rights reserved. AT&amp;T </a:t>
            </a:r>
            <a:br>
              <a:rPr sz="900"/>
            </a:br>
            <a:r>
              <a:rPr b="0" lang="en-US" sz="900" spc="-1" strike="noStrike">
                <a:solidFill>
                  <a:srgbClr val="067ab4"/>
                </a:solidFill>
                <a:latin typeface="Arial"/>
              </a:rPr>
              <a:t>and the AT&amp;T logo are trademarks of AT&amp;T Knowledge  Ventures.</a:t>
            </a:r>
            <a:endParaRPr b="0" lang="en-US" sz="900" spc="-1" strike="noStrike">
              <a:solidFill>
                <a:srgbClr val="cccc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"/>
          <p:cNvGrpSpPr/>
          <p:nvPr/>
        </p:nvGrpSpPr>
        <p:grpSpPr>
          <a:xfrm>
            <a:off x="-19080" y="-19080"/>
            <a:ext cx="9182160" cy="3362400"/>
            <a:chOff x="-19080" y="-19080"/>
            <a:chExt cx="9182160" cy="3362400"/>
          </a:xfrm>
        </p:grpSpPr>
        <p:sp>
          <p:nvSpPr>
            <p:cNvPr id="253" name="Freeform 5"/>
            <p:cNvSpPr/>
            <p:nvPr/>
          </p:nvSpPr>
          <p:spPr>
            <a:xfrm>
              <a:off x="-19080" y="-19080"/>
              <a:ext cx="9182160" cy="336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cccccc"/>
                </a:solidFill>
                <a:latin typeface="Verdana"/>
              </a:endParaRPr>
            </a:p>
          </p:txBody>
        </p:sp>
        <p:pic>
          <p:nvPicPr>
            <p:cNvPr id="254" name="Picture 6" descr="titlelogo_light"/>
            <p:cNvPicPr/>
            <p:nvPr/>
          </p:nvPicPr>
          <p:blipFill>
            <a:blip r:embed="rId2"/>
            <a:stretch/>
          </p:blipFill>
          <p:spPr>
            <a:xfrm>
              <a:off x="658800" y="812880"/>
              <a:ext cx="2865600" cy="13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Text Box 7"/>
          <p:cNvSpPr/>
          <p:nvPr/>
        </p:nvSpPr>
        <p:spPr>
          <a:xfrm>
            <a:off x="130680" y="6477120"/>
            <a:ext cx="355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3d3df"/>
                </a:solidFill>
                <a:latin typeface="Arial"/>
              </a:rPr>
              <a:t>© 2007 AT&amp;T Knowledge Ventures. All rights reserved. AT&amp;T </a:t>
            </a:r>
            <a:br>
              <a:rPr sz="900"/>
            </a:br>
            <a:r>
              <a:rPr b="0" lang="en-US" sz="900" spc="-1" strike="noStrike">
                <a:solidFill>
                  <a:srgbClr val="c3d3df"/>
                </a:solidFill>
                <a:latin typeface="Arial"/>
              </a:rPr>
              <a:t>and the AT&amp;T logo are trademarks of AT&amp;T Knowledge  Ventures.</a:t>
            </a:r>
            <a:endParaRPr b="0" lang="en-US" sz="900" spc="-1" strike="noStrike">
              <a:solidFill>
                <a:srgbClr val="cccccc"/>
              </a:solidFill>
              <a:latin typeface="Verdana"/>
            </a:endParaRPr>
          </a:p>
        </p:txBody>
      </p:sp>
      <p:grpSp>
        <p:nvGrpSpPr>
          <p:cNvPr id="256" name="Group 8"/>
          <p:cNvGrpSpPr/>
          <p:nvPr/>
        </p:nvGrpSpPr>
        <p:grpSpPr>
          <a:xfrm>
            <a:off x="0" y="0"/>
            <a:ext cx="9153360" cy="6858000"/>
            <a:chOff x="0" y="0"/>
            <a:chExt cx="9153360" cy="6858000"/>
          </a:xfrm>
        </p:grpSpPr>
        <p:grpSp>
          <p:nvGrpSpPr>
            <p:cNvPr id="257" name="Group 9"/>
            <p:cNvGrpSpPr/>
            <p:nvPr/>
          </p:nvGrpSpPr>
          <p:grpSpPr>
            <a:xfrm>
              <a:off x="0" y="4629240"/>
              <a:ext cx="9144000" cy="2228760"/>
              <a:chOff x="0" y="4629240"/>
              <a:chExt cx="9144000" cy="2228760"/>
            </a:xfrm>
          </p:grpSpPr>
          <p:sp>
            <p:nvSpPr>
              <p:cNvPr id="258" name="Freeform 15"/>
              <p:cNvSpPr/>
              <p:nvPr/>
            </p:nvSpPr>
            <p:spPr>
              <a:xfrm>
                <a:off x="0" y="4629240"/>
                <a:ext cx="9144000" cy="222876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cccccc"/>
                  </a:solidFill>
                  <a:latin typeface="Verdana"/>
                </a:endParaRPr>
              </a:p>
            </p:txBody>
          </p:sp>
          <p:pic>
            <p:nvPicPr>
              <p:cNvPr id="259" name="Picture 16" descr="att_title_logo150"/>
              <p:cNvPicPr/>
              <p:nvPr/>
            </p:nvPicPr>
            <p:blipFill>
              <a:blip r:embed="rId3"/>
              <a:stretch/>
            </p:blipFill>
            <p:spPr>
              <a:xfrm>
                <a:off x="7248600" y="5773680"/>
                <a:ext cx="1554120" cy="712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0" name="Freeform 12"/>
            <p:cNvSpPr/>
            <p:nvPr/>
          </p:nvSpPr>
          <p:spPr>
            <a:xfrm>
              <a:off x="0" y="0"/>
              <a:ext cx="9153360" cy="1795320"/>
            </a:xfrm>
            <a:prstGeom prst="pie">
              <a:avLst/>
            </a:prstGeom>
            <a:gradFill rotWithShape="0">
              <a:gsLst>
                <a:gs pos="0">
                  <a:srgbClr val="dcdcd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cccccc"/>
                </a:solidFill>
                <a:latin typeface="Verdana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67ab4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77360" y="1549440"/>
            <a:ext cx="803772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Verdana"/>
              <a:buChar char="•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IB Wb Regular"/>
              <a:buChar char="–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Verdana"/>
              <a:buChar char="•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Verdana"/>
              <a:buChar char="–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Verdana"/>
              <a:buChar char="–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Verdana"/>
              <a:buChar char="–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4"/>
          <p:cNvGrpSpPr/>
          <p:nvPr/>
        </p:nvGrpSpPr>
        <p:grpSpPr>
          <a:xfrm>
            <a:off x="-19080" y="-19080"/>
            <a:ext cx="9182160" cy="3362400"/>
            <a:chOff x="-19080" y="-19080"/>
            <a:chExt cx="9182160" cy="3362400"/>
          </a:xfrm>
        </p:grpSpPr>
        <p:sp>
          <p:nvSpPr>
            <p:cNvPr id="300" name="Freeform 5"/>
            <p:cNvSpPr/>
            <p:nvPr/>
          </p:nvSpPr>
          <p:spPr>
            <a:xfrm>
              <a:off x="-19080" y="-19080"/>
              <a:ext cx="9182160" cy="336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cccccc"/>
                </a:solidFill>
                <a:latin typeface="Verdana"/>
              </a:endParaRPr>
            </a:p>
          </p:txBody>
        </p:sp>
        <p:pic>
          <p:nvPicPr>
            <p:cNvPr id="301" name="Picture 6" descr="titlelogo_light"/>
            <p:cNvPicPr/>
            <p:nvPr/>
          </p:nvPicPr>
          <p:blipFill>
            <a:blip r:embed="rId2"/>
            <a:stretch/>
          </p:blipFill>
          <p:spPr>
            <a:xfrm>
              <a:off x="658800" y="812880"/>
              <a:ext cx="2865600" cy="13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2" name="Text Box 7"/>
          <p:cNvSpPr/>
          <p:nvPr/>
        </p:nvSpPr>
        <p:spPr>
          <a:xfrm>
            <a:off x="130680" y="6477120"/>
            <a:ext cx="355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3d3df"/>
                </a:solidFill>
                <a:latin typeface="Arial"/>
              </a:rPr>
              <a:t>© 2007 AT&amp;T Knowledge Ventures. All rights reserved. AT&amp;T </a:t>
            </a:r>
            <a:br>
              <a:rPr sz="900"/>
            </a:br>
            <a:r>
              <a:rPr b="0" lang="en-US" sz="900" spc="-1" strike="noStrike">
                <a:solidFill>
                  <a:srgbClr val="c3d3df"/>
                </a:solidFill>
                <a:latin typeface="Arial"/>
              </a:rPr>
              <a:t>and the AT&amp;T logo are trademarks of AT&amp;T Knowledge  Ventures.</a:t>
            </a:r>
            <a:endParaRPr b="0" lang="en-US" sz="900" spc="-1" strike="noStrike">
              <a:solidFill>
                <a:srgbClr val="cccccc"/>
              </a:solidFill>
              <a:latin typeface="Verdana"/>
            </a:endParaRPr>
          </a:p>
        </p:txBody>
      </p:sp>
      <p:grpSp>
        <p:nvGrpSpPr>
          <p:cNvPr id="303" name="Group 8"/>
          <p:cNvGrpSpPr/>
          <p:nvPr/>
        </p:nvGrpSpPr>
        <p:grpSpPr>
          <a:xfrm>
            <a:off x="0" y="0"/>
            <a:ext cx="9153360" cy="6858000"/>
            <a:chOff x="0" y="0"/>
            <a:chExt cx="9153360" cy="6858000"/>
          </a:xfrm>
        </p:grpSpPr>
        <p:grpSp>
          <p:nvGrpSpPr>
            <p:cNvPr id="304" name="Group 9"/>
            <p:cNvGrpSpPr/>
            <p:nvPr/>
          </p:nvGrpSpPr>
          <p:grpSpPr>
            <a:xfrm>
              <a:off x="0" y="4629240"/>
              <a:ext cx="9144000" cy="2228760"/>
              <a:chOff x="0" y="4629240"/>
              <a:chExt cx="9144000" cy="2228760"/>
            </a:xfrm>
          </p:grpSpPr>
          <p:sp>
            <p:nvSpPr>
              <p:cNvPr id="305" name="Freeform 15"/>
              <p:cNvSpPr/>
              <p:nvPr/>
            </p:nvSpPr>
            <p:spPr>
              <a:xfrm>
                <a:off x="0" y="4629240"/>
                <a:ext cx="9144000" cy="222876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cccccc"/>
                  </a:solidFill>
                  <a:latin typeface="Verdana"/>
                </a:endParaRPr>
              </a:p>
            </p:txBody>
          </p:sp>
          <p:pic>
            <p:nvPicPr>
              <p:cNvPr id="306" name="Picture 16" descr="att_title_logo150"/>
              <p:cNvPicPr/>
              <p:nvPr/>
            </p:nvPicPr>
            <p:blipFill>
              <a:blip r:embed="rId3"/>
              <a:stretch/>
            </p:blipFill>
            <p:spPr>
              <a:xfrm>
                <a:off x="7248600" y="5773680"/>
                <a:ext cx="1554120" cy="712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7" name="Freeform 12"/>
            <p:cNvSpPr/>
            <p:nvPr/>
          </p:nvSpPr>
          <p:spPr>
            <a:xfrm>
              <a:off x="0" y="0"/>
              <a:ext cx="9153360" cy="1795320"/>
            </a:xfrm>
            <a:prstGeom prst="pie">
              <a:avLst/>
            </a:prstGeom>
            <a:gradFill rotWithShape="0">
              <a:gsLst>
                <a:gs pos="0">
                  <a:srgbClr val="dcdcd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cccccc"/>
                </a:solidFill>
                <a:latin typeface="Verdana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67ab4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77360" y="1549440"/>
            <a:ext cx="803772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Verdana"/>
              <a:buChar char="•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IB Wb Regular"/>
              <a:buChar char="–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Verdana"/>
              <a:buChar char="•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Verdana"/>
              <a:buChar char="–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Verdana"/>
              <a:buChar char="–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4d4d4d"/>
              </a:buClr>
              <a:buSzPct val="80000"/>
              <a:buFont typeface="Verdana"/>
              <a:buChar char="–"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8"/>
          <p:cNvSpPr/>
          <p:nvPr/>
        </p:nvSpPr>
        <p:spPr>
          <a:xfrm>
            <a:off x="380880" y="6580080"/>
            <a:ext cx="81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ge </a:t>
            </a:r>
            <a:fld id="{993015AC-AC84-4608-8A24-D2EC6E8D53EA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cccccc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79520" y="80316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600" spc="-1" strike="noStrike">
                <a:solidFill>
                  <a:srgbClr val="067ab4"/>
                </a:solidFill>
                <a:latin typeface="Verdana"/>
              </a:rPr>
              <a:t>AT&amp;T Billing Solutions</a:t>
            </a:r>
            <a:br>
              <a:rPr sz="3600"/>
            </a:br>
            <a:r>
              <a:rPr b="1" lang="en-US" sz="3600" spc="-1" strike="noStrike">
                <a:solidFill>
                  <a:srgbClr val="067ab4"/>
                </a:solidFill>
                <a:latin typeface="Verdana"/>
              </a:rPr>
              <a:t>Anti-Cramming Policy</a:t>
            </a:r>
            <a:br>
              <a:rPr sz="3600"/>
            </a:br>
            <a:r>
              <a:rPr b="1" lang="en-US" sz="3600" spc="-1" strike="noStrike">
                <a:solidFill>
                  <a:srgbClr val="067ab4"/>
                </a:solidFill>
                <a:latin typeface="Verdana"/>
              </a:rPr>
              <a:t>Overview</a:t>
            </a:r>
            <a:br>
              <a:rPr sz="3600"/>
            </a:br>
            <a:endParaRPr b="1" lang="en-US" sz="3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1884240" y="2892600"/>
            <a:ext cx="5608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cc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7ab4"/>
                </a:solidFill>
                <a:latin typeface="Verdana"/>
              </a:rPr>
              <a:t>May 11, 2011</a:t>
            </a:r>
            <a:endParaRPr b="0" lang="en-US" sz="2000" spc="-1" strike="noStrike">
              <a:solidFill>
                <a:srgbClr val="cccccc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cc"/>
              </a:solidFill>
              <a:latin typeface="Verdana"/>
            </a:endParaRPr>
          </a:p>
        </p:txBody>
      </p:sp>
      <p:sp>
        <p:nvSpPr>
          <p:cNvPr id="349" name="TextBox 3"/>
          <p:cNvSpPr/>
          <p:nvPr/>
        </p:nvSpPr>
        <p:spPr>
          <a:xfrm>
            <a:off x="4419720" y="50245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cccc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8"/>
          <p:cNvSpPr/>
          <p:nvPr/>
        </p:nvSpPr>
        <p:spPr>
          <a:xfrm>
            <a:off x="380880" y="6580080"/>
            <a:ext cx="81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ge </a:t>
            </a:r>
            <a:fld id="{11536FEF-A657-4B14-BA05-F032EBBBED7F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cccccc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71520" y="53352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67ab4"/>
                </a:solidFill>
                <a:latin typeface="Verdana"/>
              </a:rPr>
              <a:t>Clearinghouse Obligation to “Actively Oversee” Service Providers</a:t>
            </a: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26600" y="1942920"/>
            <a:ext cx="803772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earinghouse must “actively oversee” sales, marketing, verification, fulfillment and inquiry processes of service providers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versight requires review of every service provider’s sales campaigns, channels and processes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528120" y="1968480"/>
            <a:ext cx="80377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47840" indent="-44784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Cramming complaint fee ($150) applies to each cramming complaint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447840" indent="-447840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447840" indent="-44784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Maximum cramming complaint thresholds apply to each clearinghouse and service provider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447840" indent="-447840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1" marL="896040" indent="-447840">
              <a:spcBef>
                <a:spcPts val="176"/>
              </a:spcBef>
              <a:spcAft>
                <a:spcPts val="524"/>
              </a:spcAft>
              <a:buClr>
                <a:srgbClr val="4d4d4d"/>
              </a:buClr>
              <a:buSzPct val="80000"/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Complaints cannot exceed 0.75% of bills rendered per month in any AT&amp;T telco region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447840" indent="-447840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1" marL="896040" indent="-447840">
              <a:spcBef>
                <a:spcPts val="176"/>
              </a:spcBef>
              <a:spcAft>
                <a:spcPts val="524"/>
              </a:spcAft>
              <a:buClr>
                <a:srgbClr val="4d4d4d"/>
              </a:buClr>
              <a:buSzPct val="80000"/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AT&amp;T may limit, suspend or terminate billing if clearinghouse or service provider exceeds threshold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447840" indent="-447840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1" marL="896040" indent="-447840">
              <a:spcBef>
                <a:spcPts val="176"/>
              </a:spcBef>
              <a:spcAft>
                <a:spcPts val="524"/>
              </a:spcAft>
              <a:buClr>
                <a:srgbClr val="4d4d4d"/>
              </a:buClr>
              <a:buSzPct val="80000"/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AT&amp;T typically gives third-party biller a few months to reduce complaints to threshold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447840" indent="-447840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447840" indent="-447840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1" name="Date Placeholder 3"/>
          <p:cNvSpPr/>
          <p:nvPr/>
        </p:nvSpPr>
        <p:spPr>
          <a:xfrm>
            <a:off x="1171440" y="6578640"/>
            <a:ext cx="164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FC6C-7D71-47E8-B1CF-61230ACA7D2E}" type="datetime3">
              <a:rPr b="0" lang="en-US" sz="900" spc="-1" strike="noStrike">
                <a:solidFill>
                  <a:srgbClr val="ffffff"/>
                </a:solidFill>
                <a:latin typeface="Arial"/>
              </a:rPr>
              <a:t>July 29, 2026</a:t>
            </a:fld>
            <a:endParaRPr b="0" lang="en-US" sz="900" spc="-1" strike="noStrike">
              <a:solidFill>
                <a:srgbClr val="cccccc"/>
              </a:solidFill>
              <a:latin typeface="Verdana"/>
            </a:endParaRPr>
          </a:p>
        </p:txBody>
      </p:sp>
      <p:sp>
        <p:nvSpPr>
          <p:cNvPr id="382" name="Slide Number Placeholder 4"/>
          <p:cNvSpPr/>
          <p:nvPr/>
        </p:nvSpPr>
        <p:spPr>
          <a:xfrm>
            <a:off x="380880" y="6580080"/>
            <a:ext cx="81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ge </a:t>
            </a:r>
            <a:fld id="{A9C93F44-90EB-4033-B08B-91501F1ADF32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cccccc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6360" y="647280"/>
            <a:ext cx="80377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67ab4"/>
                </a:solidFill>
                <a:latin typeface="Verdana"/>
              </a:rPr>
              <a:t>Cramming Complaints Fees and Maximum Cramming Complaint Thresholds</a:t>
            </a: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8"/>
          <p:cNvSpPr/>
          <p:nvPr/>
        </p:nvSpPr>
        <p:spPr>
          <a:xfrm>
            <a:off x="380880" y="6580080"/>
            <a:ext cx="81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ge </a:t>
            </a:r>
            <a:fld id="{C198B954-51CD-41D9-9095-C6589E313A14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cccccc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96360" y="647280"/>
            <a:ext cx="80377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67ab4"/>
                </a:solidFill>
                <a:latin typeface="Verdana"/>
              </a:rPr>
              <a:t>Annual Clearinghouse Audits</a:t>
            </a: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26600" y="1549440"/>
            <a:ext cx="80377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formance of every clearinghouse audited annually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dits conducted by a major audit firm with relevant experience and expertise, chosen by AT&amp;T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dit scope determined by AT&amp;T.  Scope includes: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•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formance of “active oversight” obligation;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•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liance with anti-cramming measures;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•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liance with truth-in-billing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8"/>
          <p:cNvSpPr/>
          <p:nvPr/>
        </p:nvSpPr>
        <p:spPr>
          <a:xfrm>
            <a:off x="380880" y="6580080"/>
            <a:ext cx="81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ge </a:t>
            </a:r>
            <a:fld id="{D8E9AF7D-A10E-457B-A1AE-C97DEB1AA867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cccccc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2280" y="736200"/>
            <a:ext cx="803736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67ab4"/>
                </a:solidFill>
                <a:latin typeface="Verdana"/>
              </a:rPr>
              <a:t>Anti-Cramming Measures</a:t>
            </a:r>
            <a:r>
              <a:rPr b="1" lang="en-US" sz="1900" spc="-1" strike="noStrike">
                <a:solidFill>
                  <a:srgbClr val="067ab4"/>
                </a:solidFill>
                <a:latin typeface="Verdana"/>
              </a:rPr>
              <a:t>—</a:t>
            </a:r>
            <a:r>
              <a:rPr b="1" lang="en-US" sz="2600" spc="-1" strike="noStrike">
                <a:solidFill>
                  <a:srgbClr val="067ab4"/>
                </a:solidFill>
                <a:latin typeface="Verdana"/>
              </a:rPr>
              <a:t>Operational </a:t>
            </a:r>
            <a:br>
              <a:rPr sz="2600"/>
            </a:b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95360" y="1955520"/>
            <a:ext cx="80373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Bill forma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  Third-party charges clearly identified in separate section of bill, with service provider, clearinghouse (if applicable), “800” contact number and website URL listed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8088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“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Adjust first” polic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  Credits issued immediately to all customers with cramming complaints regarding third-party billing.   Charges “recoursed” to third-party billers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8088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Bill blockin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  Third-party bill blocking offered to any customer that requests it or reports a cramming complaint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90680" y="1777680"/>
            <a:ext cx="803736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Service provider (subCIC) application proces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  Clearinghouses required to complete application and approval process prior to billing for any new service provider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Cramming complaint dat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  Cramming complaint data collected and tabulated monthly for all clearinghouses and service providers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Limits on certain servic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  No billing for new accounts for e-mail, voice mail, web hosting or Internet directory advertising.  Open to reconsideration if other anti-cramming measures prove successful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4" name="Date Placeholder 3"/>
          <p:cNvSpPr/>
          <p:nvPr/>
        </p:nvSpPr>
        <p:spPr>
          <a:xfrm>
            <a:off x="1171440" y="6578640"/>
            <a:ext cx="164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EEE5-91AF-4347-A499-CBE888211E8C}" type="datetime3">
              <a:rPr b="0" lang="en-US" sz="900" spc="-1" strike="noStrike">
                <a:solidFill>
                  <a:srgbClr val="ffffff"/>
                </a:solidFill>
                <a:latin typeface="Arial"/>
              </a:rPr>
              <a:t>July 29, 2026</a:t>
            </a:fld>
            <a:endParaRPr b="0" lang="en-US" sz="900" spc="-1" strike="noStrike">
              <a:solidFill>
                <a:srgbClr val="cccccc"/>
              </a:solidFill>
              <a:latin typeface="Verdana"/>
            </a:endParaRPr>
          </a:p>
        </p:txBody>
      </p:sp>
      <p:sp>
        <p:nvSpPr>
          <p:cNvPr id="355" name="Slide Number Placeholder 4"/>
          <p:cNvSpPr/>
          <p:nvPr/>
        </p:nvSpPr>
        <p:spPr>
          <a:xfrm>
            <a:off x="380880" y="6580080"/>
            <a:ext cx="81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ge </a:t>
            </a:r>
            <a:fld id="{10659DAD-F247-45BA-9076-EF15C5F432ED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cccccc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0440" y="45720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67ab4"/>
                </a:solidFill>
                <a:latin typeface="Verdana"/>
              </a:rPr>
              <a:t>Anti-Cramming Measures</a:t>
            </a:r>
            <a:r>
              <a:rPr b="1" lang="en-US" sz="1900" spc="-1" strike="noStrike">
                <a:solidFill>
                  <a:srgbClr val="067ab4"/>
                </a:solidFill>
                <a:latin typeface="Verdana"/>
              </a:rPr>
              <a:t>—</a:t>
            </a:r>
            <a:r>
              <a:rPr b="1" lang="en-US" sz="2600" spc="-1" strike="noStrike">
                <a:solidFill>
                  <a:srgbClr val="067ab4"/>
                </a:solidFill>
                <a:latin typeface="Verdana"/>
              </a:rPr>
              <a:t>Operational</a:t>
            </a:r>
            <a:br>
              <a:rPr sz="2600"/>
            </a:br>
            <a:r>
              <a:rPr b="1" lang="en-US" sz="2600" spc="-1" strike="noStrike">
                <a:solidFill>
                  <a:srgbClr val="067ab4"/>
                </a:solidFill>
                <a:latin typeface="Verdana"/>
              </a:rPr>
              <a:t>(Continued) </a:t>
            </a:r>
            <a:br>
              <a:rPr sz="2600"/>
            </a:b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8"/>
          <p:cNvSpPr/>
          <p:nvPr/>
        </p:nvSpPr>
        <p:spPr>
          <a:xfrm>
            <a:off x="380880" y="6580080"/>
            <a:ext cx="81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ge </a:t>
            </a:r>
            <a:fld id="{762B03F9-2C56-4597-99BC-FE8ED61A9373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cccccc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98400" y="203040"/>
            <a:ext cx="77724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67ab4"/>
                </a:solidFill>
                <a:latin typeface="Verdana"/>
              </a:rPr>
              <a:t>Anti-Cramming Measures—Contractual</a:t>
            </a:r>
            <a:br>
              <a:rPr sz="2600"/>
            </a:b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266760" y="1663560"/>
            <a:ext cx="859788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  During 2010, AT&amp;T amended its billing and collection contracts to strengthen their anti-cramming provisions.  Amended agreements were executed with all major billing and collection clearinghouses by the end of 2010.</a:t>
            </a:r>
            <a:endParaRPr b="0" lang="en-US" sz="1400" spc="-1" strike="noStrike">
              <a:solidFill>
                <a:srgbClr val="cccccc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cccc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imary anti-cramming measures include:</a:t>
            </a:r>
            <a:endParaRPr b="0" lang="en-US" sz="1400" spc="-1" strike="noStrike">
              <a:solidFill>
                <a:srgbClr val="cccccc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cccc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Customers notified of service, price and telephone billing before completing purchase.</a:t>
            </a:r>
            <a:endParaRPr b="0" lang="en-US" sz="1400" spc="-1" strike="noStrike">
              <a:solidFill>
                <a:srgbClr val="cccccc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cccc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Customers must consent to purchase and telephone billing.</a:t>
            </a:r>
            <a:endParaRPr b="0" lang="en-US" sz="1400" spc="-1" strike="noStrike">
              <a:solidFill>
                <a:srgbClr val="cccccc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cccc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Potentially misleading types of marketing not permitted, even if generally lawful.</a:t>
            </a:r>
            <a:endParaRPr b="0" lang="en-US" sz="1400" spc="-1" strike="noStrike">
              <a:solidFill>
                <a:srgbClr val="cccccc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cccc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Minimum authorization and verification requirements.</a:t>
            </a:r>
            <a:endParaRPr b="0" lang="en-US" sz="1400" spc="-1" strike="noStrike">
              <a:solidFill>
                <a:srgbClr val="cccccc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cccc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cccc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cccc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749160" y="2133360"/>
            <a:ext cx="782352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imary anti-cramming measures (Continued):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1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914400" indent="-4572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uble opt-in process for Internet transactions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1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1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lf-help websites for consumer inquiries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1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1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earinghouse obligation to “actively oversee” service providers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1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1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nual audits of clearinghouse performance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1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1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ramming complaint fees and maximum cramming complaint thresholds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1" name="Date Placeholder 3"/>
          <p:cNvSpPr/>
          <p:nvPr/>
        </p:nvSpPr>
        <p:spPr>
          <a:xfrm>
            <a:off x="1171440" y="6578640"/>
            <a:ext cx="164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00FB-739D-42AF-9A7A-9A19AE5BC0D9}" type="datetime3">
              <a:rPr b="0" lang="en-US" sz="900" spc="-1" strike="noStrike">
                <a:solidFill>
                  <a:srgbClr val="ffffff"/>
                </a:solidFill>
                <a:latin typeface="Arial"/>
              </a:rPr>
              <a:t>July 29, 2026</a:t>
            </a:fld>
            <a:endParaRPr b="0" lang="en-US" sz="900" spc="-1" strike="noStrike">
              <a:solidFill>
                <a:srgbClr val="cccccc"/>
              </a:solidFill>
              <a:latin typeface="Verdana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380880" y="6580080"/>
            <a:ext cx="81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ge </a:t>
            </a:r>
            <a:fld id="{7F0999F0-299D-49E6-B9DE-DDD37F65D181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cccccc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723960" y="631440"/>
            <a:ext cx="77724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67ab4"/>
                </a:solidFill>
                <a:latin typeface="Verdana"/>
              </a:rPr>
              <a:t>Anti-Cramming Measures—Contractual</a:t>
            </a:r>
            <a:br>
              <a:rPr sz="2600"/>
            </a:br>
            <a:r>
              <a:rPr b="1" lang="en-US" sz="2600" spc="-1" strike="noStrike">
                <a:solidFill>
                  <a:srgbClr val="067ab4"/>
                </a:solidFill>
                <a:latin typeface="Verdana"/>
              </a:rPr>
              <a:t>(Continued)</a:t>
            </a:r>
            <a:br>
              <a:rPr sz="2600"/>
            </a:b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98400" y="204120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67ab4"/>
                </a:solidFill>
                <a:latin typeface="Verdana"/>
              </a:rPr>
              <a:t>Selected Anti-Cramming Measures</a:t>
            </a:r>
            <a:br>
              <a:rPr sz="2600"/>
            </a:br>
            <a:r>
              <a:rPr b="1" lang="en-US" sz="2600" spc="-1" strike="noStrike">
                <a:solidFill>
                  <a:srgbClr val="067ab4"/>
                </a:solidFill>
                <a:latin typeface="Verdana"/>
              </a:rPr>
              <a:t>in More Detail</a:t>
            </a: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409760" y="4000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6" name="Date Placeholder 3"/>
          <p:cNvSpPr/>
          <p:nvPr/>
        </p:nvSpPr>
        <p:spPr>
          <a:xfrm>
            <a:off x="1171440" y="6578640"/>
            <a:ext cx="164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1B22-9B15-448B-BFEC-8A8C0EB58BF8}" type="datetime3">
              <a:rPr b="0" lang="en-US" sz="900" spc="-1" strike="noStrike">
                <a:solidFill>
                  <a:srgbClr val="ffffff"/>
                </a:solidFill>
                <a:latin typeface="Arial"/>
              </a:rPr>
              <a:t>July 29, 2026</a:t>
            </a:fld>
            <a:endParaRPr b="0" lang="en-US" sz="900" spc="-1" strike="noStrike">
              <a:solidFill>
                <a:srgbClr val="cccccc"/>
              </a:solidFill>
              <a:latin typeface="Verdana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380880" y="6580080"/>
            <a:ext cx="81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ge </a:t>
            </a:r>
            <a:fld id="{32D67FCE-798B-4264-BAA4-6607EE044B8B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cccccc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8"/>
          <p:cNvSpPr/>
          <p:nvPr/>
        </p:nvSpPr>
        <p:spPr>
          <a:xfrm>
            <a:off x="380880" y="6580080"/>
            <a:ext cx="81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ge </a:t>
            </a:r>
            <a:fld id="{8D5C1944-2D7C-438C-BF8C-EA70C2BCAFB9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cccccc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22280" y="507600"/>
            <a:ext cx="8037360" cy="10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67ab4"/>
                </a:solidFill>
                <a:latin typeface="Verdana"/>
              </a:rPr>
              <a:t>Verification Requirements</a:t>
            </a: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55680" y="1384200"/>
            <a:ext cx="80373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All Transaction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 Minimum “baseline” verification requirements for all transactions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3" marL="565200" indent="-228600">
              <a:lnSpc>
                <a:spcPct val="80000"/>
              </a:lnSpc>
              <a:spcAft>
                <a:spcPts val="349"/>
              </a:spcAft>
              <a:buClr>
                <a:srgbClr val="4d4d4d"/>
              </a:buClr>
              <a:buSzPct val="80000"/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 to existing letter of authorization (LOA) and third party verification (TPV) requirements for regulated telecommunications services. 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3" marL="565200"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Internet Transaction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 Heightened verification requirements for Internet-based transactions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568440" indent="-225360">
              <a:lnSpc>
                <a:spcPct val="80000"/>
              </a:lnSpc>
              <a:spcAft>
                <a:spcPts val="349"/>
              </a:spcAft>
              <a:buClr>
                <a:srgbClr val="4d4d4d"/>
              </a:buClr>
              <a:buSzPct val="80000"/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earinghouse or service provider must obtain: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3" marL="565200" indent="-228600">
              <a:lnSpc>
                <a:spcPct val="85000"/>
              </a:lnSpc>
              <a:spcAft>
                <a:spcPts val="349"/>
              </a:spcAft>
              <a:buClr>
                <a:srgbClr val="000000"/>
              </a:buClr>
              <a:buSzPct val="80000"/>
              <a:buFont typeface="Verdana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rst and last name;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3" marL="565200" indent="-228600">
              <a:lnSpc>
                <a:spcPct val="85000"/>
              </a:lnSpc>
              <a:spcAft>
                <a:spcPts val="349"/>
              </a:spcAft>
              <a:buClr>
                <a:srgbClr val="000000"/>
              </a:buClr>
              <a:buSzPct val="80000"/>
              <a:buFont typeface="Verdana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lling Telephone Number (“BTN”);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3" marL="565200" indent="-228600">
              <a:lnSpc>
                <a:spcPct val="85000"/>
              </a:lnSpc>
              <a:spcAft>
                <a:spcPts val="349"/>
              </a:spcAft>
              <a:buClr>
                <a:srgbClr val="000000"/>
              </a:buClr>
              <a:buSzPct val="80000"/>
              <a:buFont typeface="Verdana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ress, including street, city, state and zip code;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3" marL="565200" indent="-228600">
              <a:lnSpc>
                <a:spcPct val="85000"/>
              </a:lnSpc>
              <a:spcAft>
                <a:spcPts val="349"/>
              </a:spcAft>
              <a:buClr>
                <a:srgbClr val="000000"/>
              </a:buClr>
              <a:buSzPct val="80000"/>
              <a:buFont typeface="Verdana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firmation of legal age;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3" marL="565200" indent="-228600">
              <a:lnSpc>
                <a:spcPct val="85000"/>
              </a:lnSpc>
              <a:spcAft>
                <a:spcPts val="349"/>
              </a:spcAft>
              <a:buClr>
                <a:srgbClr val="000000"/>
              </a:buClr>
              <a:buSzPct val="80000"/>
              <a:buFont typeface="Verdana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firmation of authority to bill to telephone account; and 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3" marL="565200" indent="-228600">
              <a:lnSpc>
                <a:spcPct val="85000"/>
              </a:lnSpc>
              <a:spcAft>
                <a:spcPts val="349"/>
              </a:spcAft>
              <a:buClr>
                <a:srgbClr val="000000"/>
              </a:buClr>
              <a:buSzPct val="80000"/>
              <a:buFont typeface="Verdana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form of “non-public” information, such as date of birth or last four digits of Social Security Number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3" marL="565200" indent="0">
              <a:lnSpc>
                <a:spcPct val="85000"/>
              </a:lnSpc>
              <a:spcAft>
                <a:spcPts val="349"/>
              </a:spcAft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568440" indent="-225360">
              <a:lnSpc>
                <a:spcPct val="80000"/>
              </a:lnSpc>
              <a:spcAft>
                <a:spcPts val="349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earinghouse or independent provider must verify customer’s  information, using “established and reputable database provider” (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e.g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LEXIS, Experian)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3" marL="565200" indent="0">
              <a:lnSpc>
                <a:spcPct val="80000"/>
              </a:lnSpc>
              <a:spcAft>
                <a:spcPts val="349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8"/>
          <p:cNvSpPr/>
          <p:nvPr/>
        </p:nvSpPr>
        <p:spPr>
          <a:xfrm>
            <a:off x="380880" y="6580080"/>
            <a:ext cx="81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ge </a:t>
            </a:r>
            <a:fld id="{CCA5C0FB-DEF2-4275-BFBE-8E3CC1D6A04E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cccccc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71520" y="53352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67ab4"/>
                </a:solidFill>
                <a:latin typeface="Verdana"/>
              </a:rPr>
              <a:t>Double Opt-In Process for Internet-Based Transactions</a:t>
            </a: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26600" y="1968120"/>
            <a:ext cx="8037720" cy="29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ice, authorization and verification requirements during initial sales process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“opt-in” process required after customer has authorized transaction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ustomer sent confirmation of product, price and any term commitment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ustomer asked to confirm purchase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ustomer must affirmatively confirm purchase before billing is allowed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8"/>
          <p:cNvSpPr/>
          <p:nvPr/>
        </p:nvSpPr>
        <p:spPr>
          <a:xfrm>
            <a:off x="380880" y="6580080"/>
            <a:ext cx="81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ge </a:t>
            </a:r>
            <a:fld id="{4824B2F7-BE03-4D98-BE3E-23C513A278D9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cccccc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71520" y="635040"/>
            <a:ext cx="8037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67ab4"/>
                </a:solidFill>
                <a:latin typeface="Verdana"/>
              </a:rPr>
              <a:t>Self-Help Website for Customer Inquiries</a:t>
            </a:r>
            <a:endParaRPr b="1" lang="en-US" sz="2600" spc="-1" strike="noStrike">
              <a:solidFill>
                <a:srgbClr val="067ab4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26600" y="1549440"/>
            <a:ext cx="80377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earinghouse must provide customer self-help website (in addition to toll-free telephone numbers and e-mail)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bsite must permit customers to report and resolve complaints, including cramming complaints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bsite must allow customers to block billing by clearinghouse or service providers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solution required within four business days, with confirmation to customer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bsite URLs will provided by text phrase on customer bills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00:46:53Z</dcterms:created>
  <dc:creator>andrew johnson</dc:creator>
  <dc:description/>
  <dc:language>en-US</dc:language>
  <cp:lastModifiedBy>CDT User</cp:lastModifiedBy>
  <dcterms:modified xsi:type="dcterms:W3CDTF">2011-05-12T15:19:32Z</dcterms:modified>
  <cp:revision>1996</cp:revision>
  <dc:subject/>
  <dc:title>AT&amp;T light template</dc:title>
</cp:coreProperties>
</file>